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8A39-925C-4B2F-A737-44DDB21CC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297E-B706-4220-9DFB-0FF1DA39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9E4B-F90D-484D-8E95-CC812B06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1412-2219-4F23-B512-072ADC050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2DC7-F552-4296-81BF-E64C9A2F5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2F70-6F12-4CEF-8F4E-A937914B9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7A5-D074-435C-B0AE-13DAF56E4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49F3-E880-430E-A2C4-CE4791670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FF30-981D-4520-B4BD-55328D5B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76E6-68EC-480B-A7D9-568817574FB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2C54-F044-4818-BB70-A90FC9B9FD1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95FF-F3F7-432D-A227-3AE6F056FD2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ABB-52C0-4101-A360-DF22A77C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7C8-BF1A-4421-8579-AFCBF2F3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27F-4C72-45F7-BDE7-B7050E82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9CA-24AA-4788-828A-A0DDCEB5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3CAC-8EF5-4BDF-86DB-530F4C68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4F9C-5AE5-44F8-9FDF-468D32C1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E303-9E92-4A0B-9F2D-23C7F5A3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F81D-0861-42BC-9DCB-979C499E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B8EA-0984-4A4E-A91A-3423B61C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069E-8110-4B0C-A82F-559F522C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6660-35E8-40D5-A842-C998C25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D27-0A1B-49E4-85DA-8740176C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7808-117A-44F3-B75A-CDB6F99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651-79F4-4EED-9227-3014653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D16C-917B-4005-AF6A-FEC41ED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9854-009A-4E76-845D-83CC7736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5B79-3D42-4CF7-B9D3-B8D8EF86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A3A-CF18-4A58-99BC-38AB3B68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019-0EE2-4B00-942B-60978FC4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A15-D4F0-411A-9B85-212AFA0B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998-8E56-4FFF-84D6-B20E233F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126-A011-42E5-9677-D48440E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3CD-6CEC-4552-A5DD-83BAB86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72B-0B9F-4BAE-80E2-B51CBD9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36D0-E732-4B7A-85CC-07F5F5269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7CED-0A65-41A3-ACD0-CBE0F43B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mlets.u-net.com/" TargetMode="External"/><Relationship Id="rId2" Type="http://schemas.openxmlformats.org/officeDocument/2006/relationships/hyperlink" Target="http://www.tobintax.org.uk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News Gothic C20thC"/>
              </a:rPr>
              <a:t>GLOBALIZ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1680" y="2666880"/>
          <a:ext cx="17528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666880"/>
                    <a:ext cx="17528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295280" y="2590920"/>
          <a:ext cx="125748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90920"/>
                    <a:ext cx="12574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895480" y="3352680"/>
          <a:ext cx="1816200" cy="179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352680"/>
                    <a:ext cx="181620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876920" y="1905120"/>
          <a:ext cx="1822320" cy="14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1905120"/>
                    <a:ext cx="182232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icture 7" descr=""/>
          <p:cNvPicPr/>
          <p:nvPr/>
        </p:nvPicPr>
        <p:blipFill>
          <a:blip r:embed="rId9"/>
          <a:stretch/>
        </p:blipFill>
        <p:spPr>
          <a:xfrm>
            <a:off x="4876920" y="3581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10"/>
          <a:stretch/>
        </p:blipFill>
        <p:spPr>
          <a:xfrm>
            <a:off x="609480" y="4267080"/>
            <a:ext cx="2219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debt via borrowing rather than ta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ital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 inflation with monetar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line in em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bt management/ austerity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of the Cold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polar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-polar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ing blocs: NAFTA (FTAA)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TCNsinIraq"/>
          <p:cNvPicPr/>
          <p:nvPr/>
        </p:nvPicPr>
        <p:blipFill>
          <a:blip r:embed="rId1"/>
          <a:stretch/>
        </p:blipFill>
        <p:spPr>
          <a:xfrm>
            <a:off x="533520" y="507960"/>
            <a:ext cx="82296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ositiv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hance development of global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s pove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es weal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reads cultural values that foster democracy and tole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gatives</a:t>
            </a:r>
            <a:br>
              <a:rPr sz="36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rthers the concentration of wealth into the core and further from the periphe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mines 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es forces for revolution and suffering the world o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olution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ized economies (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gmlets.u-net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hance gov’t powers via cooper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bin T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www.tobintax.org.uk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Financial Institu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B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retton Woods Agre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tton Woods, New Hampshi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ty-fou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i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ed tha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probl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tributed to WWI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ght to avoid the reoccur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day, these bodies are, in no small way, responsible for GLOBA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79520" y="3192480"/>
            <a:ext cx="4092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5a3b"/>
                </a:solidFill>
                <a:latin typeface="Times New Roman"/>
              </a:rPr>
              <a:t>     </a:t>
            </a:r>
            <a:r>
              <a:rPr b="1" lang="en-US" sz="4000" spc="-1" strike="noStrike" u="sng">
                <a:solidFill>
                  <a:srgbClr val="f75a3b"/>
                </a:solidFill>
                <a:uFillTx/>
                <a:latin typeface="Times New Roman"/>
              </a:rPr>
              <a:t>BRETTON           </a:t>
            </a:r>
            <a:r>
              <a:rPr b="1" lang="en-US" sz="4000" spc="-1" strike="noStrike" u="sng">
                <a:solidFill>
                  <a:srgbClr val="f75a3b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75a3b"/>
                </a:solidFill>
                <a:uFillTx/>
                <a:latin typeface="Times New Roman"/>
              </a:rPr>
              <a:t>WO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5a3b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75a3b"/>
                </a:solidFill>
                <a:uFillTx/>
                <a:latin typeface="Times New Roman"/>
              </a:rPr>
              <a:t>(1944)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352680" y="19051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3429000" y="335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3352680" y="3429000"/>
            <a:ext cx="12193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440080" y="1143000"/>
            <a:ext cx="59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national Monetary F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014800" y="294012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ld 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816280" y="4800600"/>
            <a:ext cx="63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l Agreement of Trade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riffs (GAT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ational Monetary Fu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tability of world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rates (were fix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 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ases for conversion into gold. No longer the case (197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sy currency exchange and helped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SR not a m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globalizatio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ingle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 movement of capi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nationalization of non-business activ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wareness of “the other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ington, D.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ver Third World debtor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s western lending institu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le punishing nations that fail to pay back loans, most of which are made up of high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orld Bank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nstruction and develop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ds mon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developing projects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uarantees loa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count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ber nations provide funds or seed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ke the IM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minated by 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ns made for bad ideas, to human rights abusers, and to projects that damage the enviro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fails: nations still must pay back lo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General Agreement on Trade and Tariffs (GATT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e tra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ourage free trade towards develop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ouraging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ing of tariff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rease access to marke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s trading practices and disciplines violators,i.e. dump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es 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arkets; therefore, the already powerful will dominate the new global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s specia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global monopo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l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d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placed it) is the enfor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-environmen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ulation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-union, anti-social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jobs associated with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굴림"/>
              </a:rPr>
              <a:t>What’s money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eans of exch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u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of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of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Trobriand_map"/>
          <p:cNvPicPr/>
          <p:nvPr/>
        </p:nvPicPr>
        <p:blipFill>
          <a:blip r:embed="rId1"/>
          <a:stretch/>
        </p:blipFill>
        <p:spPr>
          <a:xfrm>
            <a:off x="304920" y="2362320"/>
            <a:ext cx="43624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굴림"/>
              </a:rPr>
              <a:t>Trobriand Island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8" descr="wbmalinowski_wideweb__430x250"/>
          <p:cNvPicPr/>
          <p:nvPr/>
        </p:nvPicPr>
        <p:blipFill>
          <a:blip r:embed="rId2"/>
          <a:stretch/>
        </p:blipFill>
        <p:spPr>
          <a:xfrm>
            <a:off x="4572000" y="2209680"/>
            <a:ext cx="4095720" cy="238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T_APDEV_0407"/>
          <p:cNvPicPr/>
          <p:nvPr/>
        </p:nvPicPr>
        <p:blipFill>
          <a:blip r:embed="rId3"/>
          <a:stretch/>
        </p:blipFill>
        <p:spPr>
          <a:xfrm>
            <a:off x="4876920" y="4648320"/>
            <a:ext cx="28954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굴림"/>
              </a:rPr>
              <a:t>Econom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ikonomia (Gree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ikos (househ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omos (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hus it means: “Meeting the needs of the household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r,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dmini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the wealth of the household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ne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of World War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tton Woods (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 of Cold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ing 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uses for global economic integ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tal has more power than govern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 dollars in the 1960s (Vietnam W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ld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xed exchange to floating exchange (Dema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dism to post-Ford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ap LDC lab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of neo-colon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ph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jobscam"/>
          <p:cNvPicPr/>
          <p:nvPr/>
        </p:nvPicPr>
        <p:blipFill>
          <a:blip r:embed="rId1"/>
          <a:stretch/>
        </p:blipFill>
        <p:spPr>
          <a:xfrm>
            <a:off x="609480" y="582480"/>
            <a:ext cx="807732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00:28:01Z</dcterms:created>
  <dc:creator>Hugh Plouffe</dc:creator>
  <dc:description/>
  <dc:language>en-US</dc:language>
  <cp:lastModifiedBy>MacAdmin Kis</cp:lastModifiedBy>
  <dcterms:modified xsi:type="dcterms:W3CDTF">2008-08-27T05:42:44Z</dcterms:modified>
  <cp:revision>8</cp:revision>
  <dc:subject/>
  <dc:title>Globalization</dc:title>
</cp:coreProperties>
</file>